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4A7-1AFC-41B0-B172-5B10C8E2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AD4-FFD4-4630-B9DF-99BBC07C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443-C224-4FAC-B886-5B4F9929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1EE-BFBA-4059-A121-FE01ADED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07A-B9C8-4607-9C75-9DBC0372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F4F-2EEE-4F38-85AF-408C480E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F24-7715-4ADE-8F24-C3775763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B72-4792-4EDF-9AFE-4435E489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A84-BFB1-4D9B-8800-320B1059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AFC-3CDB-4AD8-A370-75C7A817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232-789C-44C2-841B-45AC40C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D63-CB6B-4207-A197-FF5D05D1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E4E1-A855-42EE-9B7C-9BC9523E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229600" cy="9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237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e Bewegung des Mond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r dem Hintergrund des Sternen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157644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86576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86576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86576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86576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e (siderische) Bewegung des Mondes von West nach 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865760" cy="486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2:39:37Z</dcterms:created>
  <dc:creator>Udo Backhaus</dc:creator>
  <dc:description/>
  <dc:language>en-US</dc:language>
  <cp:lastModifiedBy>Udo Backhaus</cp:lastModifiedBy>
  <dcterms:modified xsi:type="dcterms:W3CDTF">2009-01-19T06:36:46Z</dcterms:modified>
  <cp:revision>4</cp:revision>
  <dc:subject/>
  <dc:title>Folie 1</dc:title>
</cp:coreProperties>
</file>